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287-6D0A-4E68-9413-9FA279A7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C92-1582-40E9-8667-61CD74AA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359-9DB2-4443-B683-5B0F9216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147-FB8F-4031-895D-941A964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B2E-B8C6-4765-933C-D638A00E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8D3-8DC0-41A6-A844-BAD3933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8B6-4B03-4F00-9315-5D107AE5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0F1-DFFA-4521-97E3-E2F1EAA8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8C5-BB36-4EF2-BDA7-D82AD4C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F4C-26D1-43C9-BDFD-5A810F7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C5D-9265-47E7-B2B3-331AC5A7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B77-3286-41EF-B3C9-4368C40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8458-64B8-4E87-BE17-31FC084D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Lucida Calligraphy"/>
              </a:rPr>
              <a:t>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ligious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Religious 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1:41Z</dcterms:created>
  <dc:creator>student</dc:creator>
  <dc:description/>
  <dc:language>en-US</dc:language>
  <cp:lastModifiedBy>student</cp:lastModifiedBy>
  <dcterms:modified xsi:type="dcterms:W3CDTF">2012-06-01T16:43:26Z</dcterms:modified>
  <cp:revision>2</cp:revision>
  <dc:subject/>
  <dc:title>Afghanistan </dc:title>
</cp:coreProperties>
</file>